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8F05B-9D90-4A02-9520-1A9BA14F6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FAA2A-D802-4F1D-AEAA-DFA449CAF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0F895-B159-44A1-9F00-E49D80D4C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C10AD-43A4-4F44-9C60-F3B2DEA4E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A372C-53AB-472B-AB6D-0F88380D5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E3592-B02A-4C6F-BC51-8855C2FFD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E840B-F29E-481F-8B04-01220F7C0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E37F2-A345-486D-AE3C-DDF71B908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C98B9-A86E-4F04-AE83-261D8305B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2736B-454B-426B-AB24-340D8F11E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B595B-5DD3-4167-889D-65BF06079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35ED8-8E1D-4810-BB93-29B8814D5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6AE7F-6FE2-448A-9EE0-1FCD9A522C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nergy conservation and hurricane intens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orge H. Brya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C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esentation at NOAA/HR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6 April 2009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3417840" y="0"/>
            <a:ext cx="5421240" cy="68612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7621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typical numerical mode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2909880"/>
            <a:ext cx="3429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dissipative heatin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Bister and Emanuel 199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511956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fallout coolin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209600" y="558720"/>
            <a:ext cx="6724800" cy="850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ssing terms” in numerical models can affect (maximum) hurricane intens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ydrometeor heat content in updrafts: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~10%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ncreas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or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&lt; 5 m/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ydrometeor heat content in fallout: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~10%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creas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or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&gt; 10 g/k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possible we’ve been lucky (or smart)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ken together, these effects tend to counteract one ano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For more information  (articles and code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http://www.mmm.ucar.edu/people/bryan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81532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Al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numerical models use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approxima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rmodynamical equ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584360" y="2852640"/>
            <a:ext cx="2549520" cy="33958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4572000" y="2971800"/>
            <a:ext cx="3962520" cy="32018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762120" y="2438280"/>
            <a:ext cx="761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mperature errors from tests of thermodynamical equati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2720" y="6248520"/>
            <a:ext cx="304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Tripoli and Cotton (198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33720" y="6248520"/>
            <a:ext cx="304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Wilhelmson (1977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380520" y="456840"/>
            <a:ext cx="84582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stion: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wh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use approximate equatio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pproximation is good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 assume tha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const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 Wilhelmson (1977), Tripoli and Cotton (198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storical inert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 “the model equations are entirely standard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rtain processes aren’t understood w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 frictional dissipation around water dro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rcRect l="67675" t="11581" r="0" b="4630"/>
          <a:stretch/>
        </p:blipFill>
        <p:spPr>
          <a:xfrm>
            <a:off x="6289560" y="4495680"/>
            <a:ext cx="2011320" cy="30481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752480" y="57150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forces on water drop at terminal velocit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228240" y="8377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tivation:  Several “missing terms” in thermodynamic equations are significant a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 wind speeds (eg, dissipative heating: Bister and Emanuel 9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rge water contents (eg, previous slid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, in other words:  in hurricanes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hodology:  use cloud-resolving research model (CM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yan and Rotunno (2009b, MWR, in pres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lver is similar to AR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ymmetric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,z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tant SST  (26-28 °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 = 1 km,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 = 250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llows Rotunno-Emanuel 198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rcRect l="0" t="49502" r="0" b="0"/>
          <a:stretch/>
        </p:blipFill>
        <p:spPr>
          <a:xfrm>
            <a:off x="4724280" y="3651120"/>
            <a:ext cx="4419720" cy="29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436760" y="1295280"/>
            <a:ext cx="7173720" cy="53802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04920" y="243000"/>
            <a:ext cx="8381880" cy="73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me series of V (m s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28600" y="2819520"/>
            <a:ext cx="2921040" cy="36036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ffect #1:  hydrometeor heat cont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160" y="990720"/>
            <a:ext cx="8305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comes important when liquid water contents are large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10 g/k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015920" y="24382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ealized tes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962520" y="2286000"/>
            <a:ext cx="47242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 (m/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ft:  without hydrometeor heat cont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:  with hydrometeor heat cont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3505320" y="3784680"/>
            <a:ext cx="2895480" cy="23889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6311880" y="3768840"/>
            <a:ext cx="2984400" cy="24559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1168560" y="6553080"/>
            <a:ext cx="304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Ooyama (199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334120" y="6553080"/>
            <a:ext cx="304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Bryan and Fritsch (200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609480" y="0"/>
            <a:ext cx="8001000" cy="600084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3048120" y="5867280"/>
            <a:ext cx="380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ll velocity of condensate 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419720" y="533520"/>
            <a:ext cx="28191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No effe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pseudoadiabatic lim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(Emanuel 1986,8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838080" y="6553080"/>
            <a:ext cx="777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See:  Bryan and Rotunno (2009, MWR, in press;  2009, JAS, submitt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905120" y="820800"/>
            <a:ext cx="28191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10-20% </a:t>
            </a:r>
            <a:r>
              <a:rPr b="0" i="1" lang="en-US" sz="1800" spc="-1" strike="noStrike">
                <a:solidFill>
                  <a:srgbClr val="0000ff"/>
                </a:solidFill>
                <a:latin typeface="Arial"/>
              </a:rPr>
              <a:t>increase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greater eyewall slop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ffect #2:  hydrometeor heat content (again), but:  fallout coo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ter drops can act as a heat si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143000" y="3505320"/>
            <a:ext cx="4113360" cy="1447560"/>
          </a:xfrm>
          <a:prstGeom prst="rect">
            <a:avLst/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144440" y="4952880"/>
            <a:ext cx="4114800" cy="1447920"/>
          </a:xfrm>
          <a:prstGeom prst="rect">
            <a:avLst/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808440" y="3886200"/>
            <a:ext cx="460440" cy="460440"/>
          </a:xfrm>
          <a:prstGeom prst="ellipse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373040" y="3657600"/>
            <a:ext cx="2057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ir:  c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op:  c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373040" y="51055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ir:  w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1143000" y="3505320"/>
            <a:ext cx="4113360" cy="1447560"/>
          </a:xfrm>
          <a:prstGeom prst="rect">
            <a:avLst/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37040" y="4419720"/>
            <a:ext cx="0" cy="1143000"/>
          </a:xfrm>
          <a:prstGeom prst="line">
            <a:avLst/>
          </a:prstGeom>
          <a:ln w="38160">
            <a:solidFill>
              <a:srgbClr val="bbe0e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144440" y="4952880"/>
            <a:ext cx="4114800" cy="1447920"/>
          </a:xfrm>
          <a:prstGeom prst="rect">
            <a:avLst/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8440" y="5562720"/>
            <a:ext cx="460440" cy="460080"/>
          </a:xfrm>
          <a:prstGeom prst="ellipse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373040" y="36576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ir:  c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373040" y="51055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ir:  w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373040" y="55627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op:  c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407200" y="5140440"/>
            <a:ext cx="3736800" cy="110808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ffect #2:  hydrometeor heat content (again), but:  fallout coo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80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ter drops can act as a heat si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0T23:59:52Z</dcterms:created>
  <dc:creator>ncar mmm</dc:creator>
  <dc:description/>
  <dc:language>en-US</dc:language>
  <cp:lastModifiedBy>ncar mmm</cp:lastModifiedBy>
  <dcterms:modified xsi:type="dcterms:W3CDTF">2009-04-15T14:14:04Z</dcterms:modified>
  <cp:revision>129</cp:revision>
  <dc:subject/>
  <dc:title>The maximum intensity of numerically simulated tropical cyclones</dc:title>
</cp:coreProperties>
</file>